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9C3-332E-49CB-831A-06809E1B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51B-C2FF-4078-B1D5-0D3E1887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D85-2CB8-42B3-A506-87B8F50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092-61F7-4861-89C0-F80CBD2F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376-F660-4537-AE30-84775C7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D10-ED68-402E-9B23-6815DA8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816-BC6E-48FA-BD48-460FD99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DAD-F2ED-46F1-BD19-B8BCE591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92D-F6E8-4833-B8DF-953BEC1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147-09B1-43E0-B3B2-122FBE4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C97-084C-481E-8603-29EC856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C6C-3E88-42C5-98AE-F10A42C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E57E-FF30-4F09-B2AF-1CD65ADB9AF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iecte realizate de el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4114800"/>
          <a:ext cx="2160720" cy="1689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114800"/>
                    <a:ext cx="2160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05:36Z</dcterms:created>
  <dc:creator>Maria</dc:creator>
  <dc:description/>
  <dc:language>en-US</dc:language>
  <cp:lastModifiedBy>Maria</cp:lastModifiedBy>
  <dcterms:modified xsi:type="dcterms:W3CDTF">2010-11-11T16:37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